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9F41-839D-43A1-B8B2-11BC1F3E8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7683-FA61-41C6-8476-FE0E4720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6E049-9388-4EC0-B30E-A5DFC77B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C6E15-3B59-4984-B5A2-F07C5441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1C75C-4037-42EE-87FF-8D16E5E7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191CB-2E35-402D-A692-1EA282BE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778A6-65E9-4568-A963-298A45F4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35E36-3AC9-472D-9CBA-CF74EAE5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E053D-211C-428F-9A49-3EA754BA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B3C61-6A73-42AF-AABD-BA7E39A8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ADEB2-C45F-4361-A9B4-7DF68F7E6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90B17-6708-4FBF-8C40-60BB8D6F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0181-6BFC-4903-B4A2-EF17D1F63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ED8FA-5E67-4A7D-9994-A1124589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BA15A-B32B-4354-9FCA-E2D05E96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5DB43-A568-4319-A645-665DE957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8C261-9322-4C10-B05B-70F072DE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E100F-0DB4-4B0C-9035-A5B81299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5346A-22B7-4078-A84A-3444F7E7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804C2-D8EF-40AB-8ED2-198512F3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FE779-EE75-4629-AFB6-2DE56456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DC075-1F22-4F77-A8CE-CC9892B3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225F8-8D85-4E05-BCC5-ED84900D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BF18-B66C-4471-8AB3-CEEAC3DD2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C0D1D-FCFF-48BB-B0B3-8434E3944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14F14-10A7-4E97-B4E3-D9C72C8E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DC1AE-B180-4362-AED1-16448F17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3C70F-A7A7-4CBB-A315-FD63EF3E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0384D-E204-4934-B200-BFA46837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2B460-FE14-416B-898B-6E8B5885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21A4F-FA21-4C10-80D2-CCA07B38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A69A7-EA74-4AA8-97D2-A22882C0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3CCFB-DD55-43B8-84B7-D2FB22A8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80922-58A9-4A5B-A85C-0FD9A9BC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A4E8-94E4-4E5F-A7DF-3971779B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43962-F727-4455-AC82-954F45A7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29B83-0D8B-4678-8F44-C0AF621C5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D7A9E-B560-4943-9832-F9660803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47B39-5B9E-4F8A-9E4E-AEBEBDDD9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AA0F7-432E-4896-A616-9D5A21FA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E07C0-CD7C-4D27-BA70-F441A1D6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02B80-2D04-41A8-B7EA-19BDCC64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689E9A-0FA9-441A-B8E5-60E7BAB6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A380F-0522-41BA-B196-96236A4F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6F4294-F982-4C7F-B9CD-D5376F42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C417-E14E-4E90-A50C-5C90E073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AC5910-5481-4AB2-BEC0-C0508733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8938A7-9670-4AC1-A991-2BB78C21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E2324-0A8F-4A00-A830-28B26907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201CD-8B23-476E-891B-27DB61BF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4AD003-23D4-4202-A922-2127F14B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5CF7-B75D-4D5D-926F-B33F5B33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58EA-0E0E-4E30-B613-BE6911A4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03F4-31AC-499E-B5E7-75BE93F5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A9CE-A18F-428D-83DD-3905E9E8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958F-06E5-4A11-9D43-2038A119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E8E1-6A3C-4AC6-A4DE-AAD0D8C1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D33A-FC9B-4EF0-9B97-BE059D34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1DCE-2C21-419E-A8B0-FBC1BB40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806D-5BF9-42F1-B373-77D814EA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6EE1-CBFA-4E3A-B7E8-27DAAB878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739E-CBB5-48FC-B37F-42BCB9D1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16F49-23F9-46E8-973F-AD7E9102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069B5-5201-4854-B00C-A881E6A7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BA28F-1E6B-4140-AAAC-DDC34EC3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0E1A3-4C49-4026-A4BC-5DAA3CEE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F5D7C-9744-493E-A414-543A6842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1856-2091-44EF-8A5F-ED498446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637B3-C590-4F2C-A652-D5828EA5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5E364-1802-492A-8CE9-BE10A151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0A9B3-6DF4-4D72-8F96-832E47A1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58BD5-9463-4A73-8DBF-CEBD1376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9EC5F-65CB-48F6-92A7-5E065F6E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08E64-B540-4145-93BE-90A9717CA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911C8-0DAE-4878-A58D-7975BC3B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9F12A-C57D-49B8-9B40-94ECCE2F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21B87-7915-4B54-902C-24FC4D70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5F2E3-91E2-489E-A559-39E94227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2464-87FD-43D7-AE9B-CAE4DE40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2B56D-18EA-455F-B187-C0F170CC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CFA7A-2012-440E-B00D-97F07949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2976E-1938-45C3-AA26-560D6043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1A212-9729-4AE6-A1A1-1D0E4550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F30BE-ECFE-41C2-B84B-91184291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D01FF-A180-41A2-89E9-6B37890F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7D583-A2FE-4D2B-9A23-AFF4C48D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39E9F-8FD9-4167-8C8F-791724BE2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DE868-7EE0-4049-9030-DA01BAA84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ADA6E-E4BE-4E7E-89C6-B657B285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5C9B-17CA-4CC2-80EE-899EAA4B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616DD-DC54-415C-8B76-0036CDCA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EABF1-D6BE-4A53-A8E9-40DA6344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F552B-47FF-4218-9E1C-74AC7297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03DCD-8304-41C0-A4B3-A5FD9437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43274-9F28-4F7F-8F11-739BA1A5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71783-FD83-4D0F-9F95-C08986D2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28835-6844-4B6C-B912-23C4F7D9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41718-8532-44E0-9593-F3FCD665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55679-AED4-473F-B62D-7EFE62CA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23818-BE4E-42AD-B89C-194AE6045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0481-FDD3-4AF1-865D-901B995D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473D2-BE09-40A0-B3FE-0240063B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5C822-FC46-420F-A289-4EC65B924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DBABA-51DE-4F43-83D5-8D4D49F6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4C8FD-20FD-40F1-9FC0-0CC8224A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0A2C1-4790-49C5-A7A9-1C084A03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6C3B6-B234-4D80-A67E-E2CA2A0E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66796-2A74-44A5-9FF4-DA4DB619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A0769-5442-4BB9-84F3-869BE441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C6C9A-F18F-45CF-852F-4A002A83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FE741-E671-47B3-A793-45AF1670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543C-7B75-4794-9DA7-3516D45A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D2C0F-F6F9-4096-A354-612B9C11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1BBAF-D8F5-4F17-938C-CFC83E733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556C5-30C7-41DF-BDB8-5CFAB22F2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7B001-46F9-4A71-BBF6-C1EB5128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E0DAD-C6B6-4837-9D7C-8B844B53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0E7B5-8EA5-4DFA-B12A-3B4665B1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004FB-61C1-48B3-BDED-28A04403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28315-6EDE-45FE-93C8-A340E85C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F0BC6-176C-45FB-926D-19208C63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2DAAC-D452-4460-86A8-5F95085E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0558-16B2-4D17-9645-292778A2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67B19-6E99-451C-B02E-07B75E27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62AAB-4170-45D3-BA1D-7DD8A329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F4020-9546-474F-92ED-41516E5E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8AE7F-F98B-442E-A086-5A86862CF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AFA19-AD23-4BD5-B68E-C4654EE12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3769D-E838-4F2B-9536-BDFBCAED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F6CCE-7554-4F68-8308-88697B3E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0C856-B38B-4272-BA9A-2787F375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1A5D0-E36D-461A-BC7B-2B111892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D5882-2E01-4875-AD3B-1975FBDF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5552-7FD8-4FC9-9008-19B6159D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34914-379D-4480-A619-2CA8089D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BB1A5-3194-40A6-AED6-D5098B33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ADEBF-B93F-4CA7-815E-128547A6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48C47-3D8F-4988-AAB1-869ADA37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DC091-1094-464C-9B19-0000D464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F231A-AF1E-40EF-8EC9-8B9C9486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239DF-443F-444A-9903-7DC9DDD9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AA672-9504-4FD1-9405-C5B233B1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ACC17-ABC7-4848-AD2D-599987E2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83199-EBA8-4C97-9545-F1B1C67E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C190-980D-4FC8-AA47-80AAB32CE0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C14D-1D1A-41EE-81E6-5254CCA3EB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1994-5B13-4E23-9F82-C0E3D945F9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A631-184D-4EAC-AB27-A35E035CC4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9E3B-10A5-443E-B4F5-D4114CDED0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B8E0-5893-4D75-990E-C76DFCC1A4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1B94-E2D3-4746-AFB6-B36DE6782C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13A8-6830-4EFC-8A9D-1B07F49B6B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714A-AA96-40B6-B435-BB3BA90C3A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6164-3003-4DDA-B45D-E03BD650F1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7EC7-7EAA-466C-91BF-F7E4AEB57E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51A0-2157-431A-9671-C5F022D2A3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60498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Профессиональный стандарт педаго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5651280" y="4741920"/>
            <a:ext cx="24476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187200" y="1052280"/>
            <a:ext cx="8948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Эффективно управлять классами, с целью вовлечения учеников в процесс обучения и воспитания, мотивируя их учебно-познавательную дея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Устанавливать четкие правила поведения в классе в соответствии с уставом и правилами поведения в образовательной орган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Оказывать всестороннюю помощь и поддержку в организации ученических органов самоупра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Уметь общаться с детьми, признавая их достоинство, понимая и принимая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179280" y="1125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Уметь строить воспитательную деятельность с учетом культурных различий детей, половозрастных и индивидуальных особенн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 Уметь поддерживать конструктивные воспитательные усилия родителей (лиц, их заменяющих) учащихся, привлекать семью к решению вопросов воспитания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. Уметь защищать достоинство и интересы учащихся, помогать детям, оказавшимся в конфликтной ситуации и/или неблагоприятных услов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асть третья: развит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79280" y="1125000"/>
            <a:ext cx="8856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Готовность принять разных детей, вне зависимости от их реальных учебных возможностей, особенностей в поведении, состояния психического и физического здоровья. Профессиональная установка на оказание помощи любому ребен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Способность в ходе наблюдения выявлять разнообразные проблемы детей, связанные с особенностями их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Способность оказать адресную помощь ребенку своими педагогическими прием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250560" y="765000"/>
            <a:ext cx="8785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Готовность к взаимодействию с другими специалистами в рамках психолого-медико-педагогического консилиу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Умение читать документацию специалистов (психологов, дефектологов, логопедов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Умение составлять совместно с другими специалистами программу индивидуального развития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Владение специальными методиками, позволяющими проводить коррекционно-развивающую раб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Умение отслеживать динамику развития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179280" y="76500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Умение защитить тех, кого в детском коллективе не приним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 Знание общих закономерностей развития личности и проявления личностных свойств, психологических законов периодизации и кризисов развития, возрастных особенностей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. Умение использовать в практике своей работы психологические подходы: культурно-исторический, деятельностный и развиваю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. Умение проектировать психологически безопасную и комфортную образовательную среду, знать и уметь проводить профилактику различных форм насилия в О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179280" y="90756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3. Владение элементарными приемами психодиагностики личностных характеристик и возрастных особенностей учащихся, осуществление совместно с психологом мониторинга личностных характеристик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4. Умение (совместно с психологом и другими специалистами) составить психолого-педагогическую характеристику (портрет) личности учащего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. Умение разрабатывать и реализовывать индивидуальные программы развития с учетом личностных и возрастных особенностей учащих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179280" y="90756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6. Умение формировать и развивать универсальные учебные действия, образцы и ценности социального поведения, навыки поведения в мире виртуальной реальности и социальных сетях, навыки поликультурного общения и толерантность, ключевые компетенции (по международным нормам) и т.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7. Владение психолого-педагогическими технологиями (в том числе инклюзивными), необходимыми для работы с различными учащимися: одаренные дети, социально уязвимые дети, попавшие в трудные жизненные ситуации, дети-мигранты, дети-сироты, дети с особыми образовательными потребностями (аутисты, СДВГ и др.), дети с ОВЗ, дети с девиациями поведения, дети с зависимость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684360" y="1267920"/>
            <a:ext cx="8208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. Умение формировать детско-взрослые сообщества, знание их социально-психологических особенностей и закономерностей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. Знание основных закономерностей семейных отношений, позволяющих эффективно работать с родительской общественн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10920" y="274320"/>
            <a:ext cx="82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сихолого-педагогические требова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 квалификации учител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усвоить ряд фундаментальных понятий из психологии личности, возрастной и педагогической психологии, определяющих результаты образовательного процесса, степень развития метапредметных компетенций, уровень и показатели социализации личности, ее развития, в том числе следующ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жданская и социальная идентич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ажение прав и свобод лич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ценностей лич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цы и нормы просоциального поведения, в том числе в виртуальной и поликультурной сре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7138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атели стадий и параметры кризисов возрастного и личностного развит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коммуникативной компетентности обучающих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системы регуляции поведения и деятельности обучающих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и становление учебной мотивации и системы универсальных учебных действ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енности освоения и смены видов ведущей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детско-взрослых сообщест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овление картины ми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нцепция и 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179280" y="119664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тремительно меняющемся открытом мире главным профессиональным качеством, которое педагог должен постоянно демонстрировать своим ученикам, становится умение уч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дение нового профессионального стандарта педагога должно неизбежно повлечь за собой изменение стандартов его подготовки и переподготовки в высшей школе и в центрах повышения квалифик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ессиональный стандарт повышает ответственность педагога за результаты своего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ы оценки выполнения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ебований профессиональног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ндарта 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оговая оценка профессиональной деятельности педагога производится по результатам обучения, воспитания и развития учащихся. Производя такую комплексную оценку, необходимо учитывать уровни образования, склонности и способности детей, особенности их развития и реальные учебные возмож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179280" y="836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ак, в оценке работы педагога с сохранными, способными учащимися в качестве критериев могут рассматриваться высокие учебные достижения и победы в олимпиадах разного уровн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 отношению к учащимся, имеющим особенности и ограниченные возможности, в качестве критериев успешной работы педагогами совместно с психологами могут рассматриваться интегративные показатели, свидетельствующие о положительной динамике развития ребенка. (Был – стал.) Или, в особо сложных случаях (например, ребенок с синдром Дауна), о сохранении его психоэмоционального статус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323640" y="98064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ивая профессиональные качества педагога, необходимо обеспечить обратную связь с потребителями его деятельности. В качестве таких потребителей выступают сами учащиеся и их родители. Отсюда следует, что оценка деятельности педагога выходит за узкие ведомственные рамки и требует закрепления организационных форм и соответствующего им порядка проведения, обеспечивающего общественное участие в этой процеду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250560" y="1196640"/>
            <a:ext cx="87138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ка соответствия требованиям, предъявляемым к педагогу, может быть проведена посредством внутреннего аудита, включающего анализ планов и отчетов, посещение проводимых им уроков, или в иной форме. Сбор данных для оценивания может быть осуществлен посредством результативного опроса, выслушивания, наблюдений и анализа документов, записей и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323640" y="105264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нутренние аудиторы образовательного учреждения должны назначаться из числа наиболее уважаемых и авторитетных педагогов  данного учреждения и быть обучены принципам, процедурам и методам проведения аудитов. Объем и частота проведения внутреннего аудита в отношении конкретного педагога устанавливаются самой образовательной организацией, исходя из ее политики в области повышения качества образовательных услу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зультаты внутренних аудитов должны учитываться при проведении государственной аттестации педагога и присвоении ему соответствующей категор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аключительные по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79280" y="1125000"/>
            <a:ext cx="8856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 профессионального стандарта педагога предоставляет регионам РФ и образовательным организациям дополнительные степени свободы, вместе с тем накладывая на них серьезную ответств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иональные органы управления образованием совместно с профессиональным сообществом могут разработать дополнения к нему. В свою очередь, образовательные организации имеют возможность сформулировать свои внутренние стандарты, на основе которых нужно будет разработать и принять локальные нормативные акты, закрепляющие требования к квалификации педагогов, соответствующие задачам данной образовательной организации и специфике ее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чем нужен профессиональный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ндарт 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дарт – инструмент реализации стратегии образования в меняющемся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дарт – инструмент повышения качества образования и выхода отечественного образования на международный уров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дарт – объективный измеритель квалификации педаго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дарт – средство отбора педагогических кадров в учреждения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дарт – основа для формирования трудового договора, фиксирующего отношения между работником и работодате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обходимость наполнения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ессионального стандарта учител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выми компетенция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179280" y="1341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с одаренными учащими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в условиях реализации программ инклюзивного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подавание русского языка учащимся, для которых он не является род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с учащимися, имеющими проблемы в развит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с девиантными, зависимыми, социально запущенными и социально уязвимыми учащимися, имеющими серьезные отклонения в повед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10920" y="115920"/>
            <a:ext cx="80866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арактеристика станда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79280" y="112536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ессиональный стандарт педагога – рамочный документ, в котором определяю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ребования к его квалифик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енациональная рамка стандарта может быть дополнена региональными требованиями, внутренним стандартом образовательного учреждения, в соответствии со спецификой реализуемых в данном учреждении образовательных програм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бласть приме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179280" y="1125360"/>
            <a:ext cx="8785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риеме на работу в образовательное учрежд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роведении аттестации педагогов образовательных учреждений региональными органами исполнительной власти, осуществляющими управление в сфере обра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роведении аттестации педагогов самими образовательными организациями, в случае предоставления им соответствующих полномоч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держание профессионального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андарта педагога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ть первая: обу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79280" y="1916280"/>
            <a:ext cx="8856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едагог долже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ть высшее образ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монстрировать знание предмета и программы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ть планировать, проводить уроки, анализировать их эффективность (самоанализ урок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адеть формами и методами обучения, выходящими за рамки уроков: лабораторные эксперименты, полевая практика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395280" y="1268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Использовать специальные подходы к обучению, для того чтобы включить в образовательный процесс всех учеников: со специальными потребностями в образовании; одаренных учеников; учеников, для которых русский язык не является родным; учеников с ограниченными возможностями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Уметь объективно оценивать знания учеников, используя разные формы и методы контро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Владеть ИКТ-компетенц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8137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асть вторая: воспитатель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79280" y="1125360"/>
            <a:ext cx="8785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едагог долже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Владеть формами и методами воспитательной работы, используя их как на уроке, так и во внекласс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Владеть методами организации экскурсий, походов и экспеди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Владеть методами музейной педагогики, используя их для расширения кругозора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Эффективно регулировать поведение учащихся для обеспечения безопасной образовательной ср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2T17:01:59Z</dcterms:created>
  <dc:creator>НВ</dc:creator>
  <dc:description/>
  <dc:language>en-US</dc:language>
  <cp:lastModifiedBy>USERZAV</cp:lastModifiedBy>
  <dcterms:modified xsi:type="dcterms:W3CDTF">2015-11-23T12:27:52Z</dcterms:modified>
  <cp:revision>16</cp:revision>
  <dc:subject/>
  <dc:title>Профессиональный стандарт педагога</dc:title>
</cp:coreProperties>
</file>